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F6B-5DE5-4726-A10A-77EC58A2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F11-437A-4877-B31E-718DDEFE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D26-7B0C-4E0F-95C1-798FBF37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E10-DECD-41E8-806D-C12E675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83D-9E29-451B-97A6-2D2DCDAC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F1F-6601-44CB-98E0-E6E003E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DDC-B397-405D-B8CC-4A2CEE9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087-C0C7-4C53-813C-950A5AF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FE5-97F2-454A-B5DE-D7A06CE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75E-281D-4BE7-80BB-1915B6B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0C9-546C-4E4F-B28F-436EFF23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B97-93FB-4736-A08B-5706F73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028-48F8-4D97-80CD-6B8BA651A9F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68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Industrialization  PH RD 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96080" y="1138320"/>
            <a:ext cx="1282680" cy="322200"/>
            <a:chOff x="7696080" y="1138320"/>
            <a:chExt cx="1282680" cy="322200"/>
          </a:xfrm>
        </p:grpSpPr>
        <p:sp>
          <p:nvSpPr>
            <p:cNvPr id="45" name=""/>
            <p:cNvSpPr/>
            <p:nvPr/>
          </p:nvSpPr>
          <p:spPr>
            <a:xfrm>
              <a:off x="7729920" y="123012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96080" y="11383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14605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524720" y="6165720"/>
            <a:ext cx="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5480" y="1479600"/>
            <a:ext cx="2311200" cy="6238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RD 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Industr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Thonha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288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L Co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Klaus Kroe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Process&amp;Qu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M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.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Concept &amp;Technology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Udo Bee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772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lmut Rieseneg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rtwin Sch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29240" y="5065560"/>
            <a:ext cx="138564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LP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Becker-Bam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2288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L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Ralph Mailae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288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ia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WT 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0"/>
            <a:endCxn id="49" idx="2"/>
          </p:cNvCxnSpPr>
          <p:nvPr/>
        </p:nvCxnSpPr>
        <p:spPr>
          <a:xfrm flipH="1" flipV="1" rot="5400000">
            <a:off x="1934640" y="2409480"/>
            <a:ext cx="2962440" cy="23508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3" idx="0"/>
            <a:endCxn id="49" idx="2"/>
          </p:cNvCxnSpPr>
          <p:nvPr/>
        </p:nvCxnSpPr>
        <p:spPr>
          <a:xfrm flipH="1" flipV="1" rot="5400000">
            <a:off x="2704680" y="3179520"/>
            <a:ext cx="2962440" cy="8107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0"/>
            <a:endCxn id="49" idx="2"/>
          </p:cNvCxnSpPr>
          <p:nvPr/>
        </p:nvCxnSpPr>
        <p:spPr>
          <a:xfrm flipV="1" rot="16200000">
            <a:off x="3475440" y="3219120"/>
            <a:ext cx="2962440" cy="731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6" idx="0"/>
            <a:endCxn id="49" idx="2"/>
          </p:cNvCxnSpPr>
          <p:nvPr/>
        </p:nvCxnSpPr>
        <p:spPr>
          <a:xfrm flipV="1" rot="16200000">
            <a:off x="4222440" y="2472120"/>
            <a:ext cx="2962440" cy="2225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1" idx="3"/>
            <a:endCxn id="49" idx="2"/>
          </p:cNvCxnSpPr>
          <p:nvPr/>
        </p:nvCxnSpPr>
        <p:spPr>
          <a:xfrm flipV="1">
            <a:off x="2933640" y="2103480"/>
            <a:ext cx="165780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2" idx="3"/>
            <a:endCxn id="49" idx="2"/>
          </p:cNvCxnSpPr>
          <p:nvPr/>
        </p:nvCxnSpPr>
        <p:spPr>
          <a:xfrm flipV="1">
            <a:off x="2933640" y="2103480"/>
            <a:ext cx="165780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1"/>
            <a:endCxn id="49" idx="2"/>
          </p:cNvCxnSpPr>
          <p:nvPr/>
        </p:nvCxnSpPr>
        <p:spPr>
          <a:xfrm rot="10800000">
            <a:off x="4590720" y="2103480"/>
            <a:ext cx="153216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0" idx="1"/>
            <a:endCxn id="49" idx="2"/>
          </p:cNvCxnSpPr>
          <p:nvPr/>
        </p:nvCxnSpPr>
        <p:spPr>
          <a:xfrm rot="10800000">
            <a:off x="4590720" y="2103120"/>
            <a:ext cx="153216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beeker</cp:lastModifiedBy>
  <dcterms:modified xsi:type="dcterms:W3CDTF">2006-05-23T16:50:28Z</dcterms:modified>
  <cp:revision>135</cp:revision>
  <dc:subject/>
  <dc:title>PowerPoint 簡報</dc:title>
</cp:coreProperties>
</file>